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6248-1F09-42FB-9849-2A83BFAC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9A9-28DF-48C0-B5C0-97EE9A9A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3E86-D1EE-4F4C-8DEA-AE304E87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CF52-C3E3-4A8E-96E5-694E99D5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D765-529B-41F9-BD37-0B40E90B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9955-5C2E-4959-A26B-DE06D33C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7A4C-1A2B-43A2-A508-B0D99DE2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A108-E3D1-4443-811E-E402B62F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F342-0F2F-43F7-93A9-7DDC0024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6C4F-27C1-4767-989D-104EA0FB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5310-2A57-4857-973D-04401D3E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959-3129-42AB-890E-40FDA53C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92F5-6117-45CC-B7D4-98214615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79A7-5202-410A-8F8D-72583559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B26B-75FE-4970-A938-3FFC506D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3A94-7E32-452B-A4AF-C8F702F1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68E8-1D24-4810-B80F-38D755FB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36F7-3958-4D78-9E00-778072A5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341-B626-435E-AA38-BA5962F5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C819-6574-4A9B-8A9B-568539A1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7446-3F1B-4D05-B15A-8BE901B7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3A83-1987-4153-B7CD-E33C6071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849-CED7-496A-8B5E-CBB811CC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8F3-8A68-488B-B84B-88F94B94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88BF-8A5F-43E4-BF62-4673038AE7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D762-A333-4BC8-ADD5-8CB59A878C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Jordan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a/Mount_Nebo3.jpe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3/Petra_metzes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0004"/>
                </a:solidFill>
                <a:latin typeface="Arial Black"/>
              </a:rPr>
              <a:t>Jordan   </a:t>
            </a:r>
            <a:r>
              <a:rPr b="1" lang="ar-SA" sz="4400" spc="-1" strike="noStrike">
                <a:solidFill>
                  <a:srgbClr val="010004"/>
                </a:solidFill>
                <a:latin typeface="Arial Black"/>
                <a:cs typeface="Arial"/>
              </a:rPr>
              <a:t>الأردنّ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4"/>
                </a:solidFill>
                <a:latin typeface="Arial"/>
              </a:rPr>
              <a:t>By: Kyley and Joh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ita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en.wikipedia.org/wiki/Jor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news.bbc.co.uk/1/hi/world/middle_east/country_profiles/828763.s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File:Mount Nebo3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Lan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rdan is a Southwest Asian cou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rdan consists of arid forest plateau in the east irrigated by oasis and seasonal water strea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nd Con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ighest point in the country is Jabal 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at Rift Valley of the Jordan River separates Jordan, the west bank and Isra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rdan’s Natural Resources are Phosphates, Potash, and Shale 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mate/Veget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imate is very rainy from November to march and semi dry weather for the rest of the yea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animals are Caracal Persian Lynx), Red Fox, Hare, Golden Jackal, and Arabian Ory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vernment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4"/>
                </a:solidFill>
                <a:latin typeface="Arial"/>
              </a:rPr>
              <a:t>Their government is a constitutional monarc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4"/>
                </a:solidFill>
                <a:latin typeface="Arial"/>
              </a:rPr>
              <a:t>The king is Abdull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4"/>
                </a:solidFill>
                <a:latin typeface="Arial"/>
              </a:rPr>
              <a:t>The Prime minister is Nader al-Daha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4"/>
                </a:solidFill>
                <a:latin typeface="Arial"/>
              </a:rPr>
              <a:t>The population is 6.1 mill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4"/>
                </a:solidFill>
                <a:latin typeface="Arial"/>
              </a:rPr>
              <a:t>Life expectancy is 71 years for men and for women is 7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story and Current Ev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ingdom of Petra, was founded by the Nabatae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lim is facing time in Jordan. He moved and could be sent back to Jordan and tortured. They think he was 'Osama Bin Laden's right hand man in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nomy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of light manufactured products, gar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 and literacy rates and measures of social well-being are very high compared to other countries with similar inco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rdan's currency is Jordanian dinar (JO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File:Petra metz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ul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thing is mod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abian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uage is Arab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gion is Islam and Christian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laces to vis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usader Cast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famous of these is Kera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ad Se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jloun Cas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7:29:50Z</dcterms:created>
  <dc:creator>kyleymhughes</dc:creator>
  <dc:description/>
  <dc:language>en-US</dc:language>
  <cp:lastModifiedBy>McFaddeR</cp:lastModifiedBy>
  <dcterms:modified xsi:type="dcterms:W3CDTF">2009-02-19T17:25:58Z</dcterms:modified>
  <cp:revision>5</cp:revision>
  <dc:subject/>
  <dc:title>Slide 1</dc:title>
</cp:coreProperties>
</file>